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8B5-A1BB-4C22-910F-BCE207B7A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752-0190-4F5D-840D-7C8CE546C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C479-10E4-465D-80E3-109446B88F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1758-9B41-4392-B60D-0B87DA2FA0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8F1-5FB0-41D3-9E4F-D5B98FEE66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FA29-035D-4EA7-A635-70857CE15B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B2D-5177-4274-8EC7-33808D3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C84-0871-4DBA-AEC2-F1CEB6B6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3EC-3AD8-46F0-8370-9235698D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17F-FF63-4DFE-8061-E0E85281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980E-2074-400A-B039-D31ECC63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F552-D9F7-4A75-8BAF-BE717DB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BB50-00F9-479F-957E-7E305D98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285-3188-4E86-9DCA-4A49DE8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5AF-9360-403D-ADDD-16D1C53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C2CB-D1B7-4B32-8D5E-411ED32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B7BA-1B6D-4FD8-990E-3C8A36F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584-D863-4CB3-93A1-DD9ABBE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48E-93C1-4AED-A910-DB70010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876A-5A32-427E-88E3-E2EF4C3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D5A-EB05-47C9-9020-C377FC7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013-CFCB-468A-9FEB-D9138A29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81A8-9669-4D8E-9D8C-02AAB8B5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A932-3ED1-4834-87B1-4A4D6658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4F00-03BE-48D6-9E98-EDF80040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8055-E623-43FB-B728-1520086E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FA70-87E7-460A-8463-649198CD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0D9C2-6874-48C4-A845-363AA45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F00-63E6-4687-AE38-621CF0D7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CF86-78E8-4FD2-93BF-CD7581B7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1C50-F62B-47D1-84F2-60A1665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D4A1-D3B3-4B80-865F-CCC47F5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4084-F22D-4FEC-9F3F-95D904B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D1CB-51E0-4779-AB34-8E1F1BE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4834-843E-4DBD-8D44-66E85A55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47CA-4C3E-4F60-84FF-25B7D198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5E9B-92D8-4381-80B2-36D11100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521C-7BAC-4DAD-B5E8-2A2DB73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F8E22-62EE-442C-9B57-A46B553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6AB-A2F3-498E-90D0-7C075D2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3D97C-5C2A-4BCA-BBD1-47252EF8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CC2B-5DF3-4317-8591-BD6F5F8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7B09-F599-4267-8D25-CAFE969E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0139-ED10-4C80-9844-C2CEBCB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F204-6CA8-44CB-A7C0-7CA28ED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553F-1E8C-43E6-9BBB-DB67ED4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A4E6-50F4-47F6-B9C9-45B6440D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11BB2-D008-498B-869C-72B61422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C361-B351-4C1C-B823-320244A5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E5D-A79E-4215-BEF0-829CF0F6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95B-62E0-461C-AB9B-633E7FF9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097-76EA-45DC-AADE-411D6EA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8A8-9FB0-45CE-A940-33A7B58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95A-4BCC-43FA-8843-CD4A799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025-D617-4B92-A531-F1C8156A12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AFD-5DE9-4F37-B6E2-EC70C2883D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A96-7AE9-410D-9A6D-E5A2FFFA42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4284-C1F8-48D2-AD6B-BA2EA8C881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222-684A-4858-811F-8ECC80279B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37800" y="1587600"/>
            <a:ext cx="7397640" cy="252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ПРОЕКТ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бюджета 2014 года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а плановый период 2015-2016г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554040" y="4467240"/>
            <a:ext cx="79786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НИЦИПАЛЬНОГО ОБРАЗОВА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ЗВЕНИГОВ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НИЦИПАЛЬНЫЙ РАЙОН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2" name="Picture 20" descr="логотип район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43880" y="333360"/>
            <a:ext cx="1071360" cy="1023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FA44-A857-48D1-96B8-DF6B8382B0D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47840" y="873000"/>
          <a:ext cx="8259480" cy="5572080"/>
        </p:xfrm>
        <a:graphic>
          <a:graphicData uri="http://schemas.openxmlformats.org/drawingml/2006/table">
            <a:tbl>
              <a:tblPr/>
              <a:tblGrid>
                <a:gridCol w="776160"/>
                <a:gridCol w="3792600"/>
                <a:gridCol w="1222200"/>
                <a:gridCol w="1190880"/>
                <a:gridCol w="1277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юджет 2013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Бюджет 2014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%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3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3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ациональная безопас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храна окружающего ми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306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35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ультур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редства массовой информа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Обслуж.муниц.дол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жбюджетные трансф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7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7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49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54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Прямоугольник 3"/>
          <p:cNvSpPr/>
          <p:nvPr/>
        </p:nvSpPr>
        <p:spPr>
          <a:xfrm>
            <a:off x="2228760" y="311040"/>
            <a:ext cx="49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руктура расх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F18D-3F90-4C46-87BB-2368E847A19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79160" y="285480"/>
            <a:ext cx="8156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оля расходов в бюджете муниципального образования "Звениговский муниципальный район" на 2014 г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Object 3" descr=""/>
          <p:cNvPicPr/>
          <p:nvPr/>
        </p:nvPicPr>
        <p:blipFill>
          <a:blip r:embed="rId1"/>
          <a:stretch/>
        </p:blipFill>
        <p:spPr>
          <a:xfrm>
            <a:off x="457200" y="2752560"/>
            <a:ext cx="4035600" cy="222588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4" descr=""/>
          <p:cNvPicPr/>
          <p:nvPr/>
        </p:nvPicPr>
        <p:blipFill>
          <a:blip r:embed="rId2"/>
          <a:stretch/>
        </p:blipFill>
        <p:spPr>
          <a:xfrm>
            <a:off x="853920" y="1628640"/>
            <a:ext cx="7818480" cy="47530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249880" y="38257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303800" y="39020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4600440" y="5468760"/>
            <a:ext cx="1743120" cy="895680"/>
          </a:xfrm>
          <a:prstGeom prst="wedgeRectCallout">
            <a:avLst>
              <a:gd name="adj1" fmla="val -45990"/>
              <a:gd name="adj2" fmla="val -132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политика 21,6 млн. руб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579840" y="40100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9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2666880" y="5473800"/>
            <a:ext cx="1685880" cy="880920"/>
          </a:xfrm>
          <a:prstGeom prst="wedgeRectCallout">
            <a:avLst>
              <a:gd name="adj1" fmla="val 14763"/>
              <a:gd name="adj2" fmla="val -148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.культура и спор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,3 млн.руб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6654960" y="4927680"/>
            <a:ext cx="2016000" cy="792000"/>
          </a:xfrm>
          <a:prstGeom prst="wedgeRectCallout">
            <a:avLst>
              <a:gd name="adj1" fmla="val -98342"/>
              <a:gd name="adj2" fmla="val -77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государс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ы  32,6 млн.руб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371760" y="25430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3"/>
          <p:cNvSpPr/>
          <p:nvPr/>
        </p:nvSpPr>
        <p:spPr>
          <a:xfrm flipV="1" rot="10800000">
            <a:off x="6533640" y="3563280"/>
            <a:ext cx="7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AutoShape 14"/>
          <p:cNvSpPr/>
          <p:nvPr/>
        </p:nvSpPr>
        <p:spPr>
          <a:xfrm>
            <a:off x="4879800" y="1657440"/>
            <a:ext cx="1700280" cy="647640"/>
          </a:xfrm>
          <a:prstGeom prst="wedgeRectCallout">
            <a:avLst>
              <a:gd name="adj1" fmla="val -65597"/>
              <a:gd name="adj2" fmla="val 10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54,3 млн.руб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AutoShape 15"/>
          <p:cNvSpPr/>
          <p:nvPr/>
        </p:nvSpPr>
        <p:spPr>
          <a:xfrm>
            <a:off x="7513560" y="2048040"/>
            <a:ext cx="1825560" cy="928440"/>
          </a:xfrm>
          <a:prstGeom prst="wedgeRectCallout">
            <a:avLst>
              <a:gd name="adj1" fmla="val -69300"/>
              <a:gd name="adj2" fmla="val 133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бюджетные трансферты 76,1 млн.руб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2001960" y="4140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1619280" y="364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AutoShape 19"/>
          <p:cNvSpPr/>
          <p:nvPr/>
        </p:nvSpPr>
        <p:spPr>
          <a:xfrm>
            <a:off x="866880" y="5497560"/>
            <a:ext cx="1617480" cy="720720"/>
          </a:xfrm>
          <a:prstGeom prst="wedgeRectCallout">
            <a:avLst>
              <a:gd name="adj1" fmla="val 98125"/>
              <a:gd name="adj2" fmla="val -175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2,3 млн.руб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20"/>
          <p:cNvSpPr/>
          <p:nvPr/>
        </p:nvSpPr>
        <p:spPr>
          <a:xfrm>
            <a:off x="3090960" y="3857760"/>
            <a:ext cx="6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2411280" y="2708280"/>
            <a:ext cx="6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AutoShape 23"/>
          <p:cNvSpPr/>
          <p:nvPr/>
        </p:nvSpPr>
        <p:spPr>
          <a:xfrm flipV="1" rot="10800000">
            <a:off x="178920" y="3048480"/>
            <a:ext cx="1544760" cy="808200"/>
          </a:xfrm>
          <a:prstGeom prst="wedgeRectCallout">
            <a:avLst>
              <a:gd name="adj1" fmla="val -67787"/>
              <a:gd name="adj2" fmla="val 124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е расходы 27,8 млн.руб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Object 3" descr=""/>
          <p:cNvPicPr/>
          <p:nvPr/>
        </p:nvPicPr>
        <p:blipFill>
          <a:blip r:embed="rId3"/>
          <a:stretch/>
        </p:blipFill>
        <p:spPr>
          <a:xfrm>
            <a:off x="2905200" y="4248000"/>
            <a:ext cx="749160" cy="5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Бюджетные ассигнования бюджета на исполнение публичных нормативных обязательств    тыс.руб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1600200"/>
          <a:ext cx="8229600" cy="4381560"/>
        </p:xfrm>
        <a:graphic>
          <a:graphicData uri="http://schemas.openxmlformats.org/drawingml/2006/table">
            <a:tbl>
              <a:tblPr/>
              <a:tblGrid>
                <a:gridCol w="6018120"/>
                <a:gridCol w="221148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оплата к пенсии лицам, замещавшим должности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43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сходы на выплату вознаграждения приемным родителям, и на содержание по обеспечению детей-сир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947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возмещение части процентной ставки по кредитам, на привлекаемым гражданами на газификацию индивидуального жил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возмещение части процентной ставки по кредитам, на привлекаемым гражданами на водоснабжение индивидуального жил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Бюджетные ассигнования бюджета на исполнение публичных нормативных обязательст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76280" y="1530360"/>
          <a:ext cx="8153280" cy="4127400"/>
        </p:xfrm>
        <a:graphic>
          <a:graphicData uri="http://schemas.openxmlformats.org/drawingml/2006/table">
            <a:tbl>
              <a:tblPr/>
              <a:tblGrid>
                <a:gridCol w="6153120"/>
                <a:gridCol w="2000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диновременная выплата на ремонт жилых помещений, находящихся в собственности детей-сир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ая поддержка по оплате жилья и коммунальных услуг детям-сирот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сплатный проезд 1 раз в год к месту жительства и обратно к месту уче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диновременное пособие при передаче ребенка на воспитание в семь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устройство поквартирной газовой системы ото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360" marR="9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24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720" y="2091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ЕРЕЧЕНЬ МУНИЦИПАЛЬНЫХ ПРОГРАМ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09480" y="1247760"/>
          <a:ext cx="7658280" cy="4924440"/>
        </p:xfrm>
        <a:graphic>
          <a:graphicData uri="http://schemas.openxmlformats.org/drawingml/2006/table">
            <a:tbl>
              <a:tblPr/>
              <a:tblGrid>
                <a:gridCol w="7658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«Развитие образования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«Развитие культуры, искусства и туризма Звениговского муниципального района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«Управление муниципальными финансами и муниципальным долгом муниципального образования «Звениговский муниципальный район»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«Обеспечение безопасности жизнедеятельности населения Звениговского муниципального района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.«Развитие экономики на территории Звениговского муниципального района на 2014-2018г.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«Развитие муниципальной службы и информационно-телекоммуникационных технологий в Звениговском муниципальном районе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«Национальная безопасность по Звениговскому муниципальному району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720" y="1141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1.Муниципальная  программа «Развитие образования  на 2014-2018 годы»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лн.руб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95200" y="1009800"/>
          <a:ext cx="8734680" cy="4881240"/>
        </p:xfrm>
        <a:graphic>
          <a:graphicData uri="http://schemas.openxmlformats.org/drawingml/2006/table">
            <a:tbl>
              <a:tblPr/>
              <a:tblGrid>
                <a:gridCol w="7115400"/>
                <a:gridCol w="16192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.Подпрограмма «Развитие дошкольного образования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1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2.Подпрограмма «Развитие общего образования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20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3.Подпрограмма «Развитие дополнительного образования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7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4.Подпрограмма «Организация отдыха, оздоровления и занятости детей и подростк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5.Подпрограмма «Развитие физической культуры и спор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6.Подпрограмма «Патриотическое воспитание населения Звениговского муниципального района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7.Подпрограмма «Профилактика безнадзорности и правонарушений несовершеннолетних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8.Подпрограмма «Жилье для молодой семьи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9.Подпрограмма «Опека и попечительств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0.Обеспечение реализации МП «Развитие образова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373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.Муниципальная программ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Развитие культуры, искусства и туризма Звениговского муниципального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айона на  2014-2018 годы»           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лн.руб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85640" y="1857240"/>
          <a:ext cx="8229600" cy="4581720"/>
        </p:xfrm>
        <a:graphic>
          <a:graphicData uri="http://schemas.openxmlformats.org/drawingml/2006/table">
            <a:tbl>
              <a:tblPr/>
              <a:tblGrid>
                <a:gridCol w="7210440"/>
                <a:gridCol w="1019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.Подпрограмма «Культурно-досуговая деятельность и народное творчество – средство организации досуга насел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2.Подпрограмма «Библиотека время: новые реалии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3.Подпрограмма «Музейное дело в сохранении культурного наследия в Звениговском район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4.Подпрограмма «Туризм как фактор приобщения к историко-культурному наследию Звениговского райо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5.Подпрограмма «Сохранение и развитие художественного образования в детских школах искусств Звениговского райо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1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6.Подпрограмма «Строительство,реконструкция и капитальный ремонт в учреждениях культуры и искусства Звениговского райо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7.Подпрограмма «Развитие средств массовой информациии в муниципальном образовании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8.Подпрограмма «Обеспечение реализации МП «Развитие культуры, исскуства и туризм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d3b"/>
                          </a:solidFill>
                          <a:latin typeface="Verdana"/>
                        </a:rPr>
                        <a:t>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8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37C-141D-40A8-9CBC-B0E1BF843D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.Муниципальная программа «Управление муниципальными финансами и муниципальным долгом муниципального образования «Звениговский муниципальный район» на 2014-2018 годы»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лн.руб.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38120" y="2666880"/>
          <a:ext cx="8229600" cy="3387960"/>
        </p:xfrm>
        <a:graphic>
          <a:graphicData uri="http://schemas.openxmlformats.org/drawingml/2006/table">
            <a:tbl>
              <a:tblPr/>
              <a:tblGrid>
                <a:gridCol w="6886440"/>
                <a:gridCol w="1343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.Подпрограмма «Управление муниципальными финансами муниципального образования «Звениговский муниципальный райо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2.Подпрограмма «Управление муниципальным долгом муниципального образования «Звениговский муниципальный райо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.Подпрограмма «Обеспечение реализации МП«Управление муниципальными финансами и муниципальным долгом МО«Звениговский муниципальный район» на 2014-2018 год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8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85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502B-9121-4868-9260-043278886A1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.Муниципальная программа «Обеспечение безопасности жизнедеятельности населения Звениговского муниципального района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на 2014-2018 годы»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лн.руб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09680" y="2362320"/>
          <a:ext cx="8229600" cy="3814560"/>
        </p:xfrm>
        <a:graphic>
          <a:graphicData uri="http://schemas.openxmlformats.org/drawingml/2006/table">
            <a:tbl>
              <a:tblPr/>
              <a:tblGrid>
                <a:gridCol w="7115040"/>
                <a:gridCol w="11145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.Подпрограмма «Комплексное развитие систем коммунальной инфраструктуры на территории на МО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.Подпрограмма «Повышение безопасности дорожного движения в муниципальном образовании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.Подпрограмма «Мероприятия по охране окружающей среды на территории муниципального образования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4.Подпрограмма «Усовершенствование территориального планирования и благоустройства территорий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.Подпрограмма «Переселение граждан из ветхого и аварийного жилищного фонда в МО «Звениговский муниципальный район» на 2014-2015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21,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8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947-EB93-4F13-B19E-F3C9673FAF0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.Муниципальная программа «Развитие экономики на территории Звениговского муниципального района на 2014-2018 годы»   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лн.руб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95360" y="2228760"/>
          <a:ext cx="8229600" cy="3232080"/>
        </p:xfrm>
        <a:graphic>
          <a:graphicData uri="http://schemas.openxmlformats.org/drawingml/2006/table">
            <a:tbl>
              <a:tblPr/>
              <a:tblGrid>
                <a:gridCol w="7029360"/>
                <a:gridCol w="120024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.Подпрограмма «Энергосбережения и повышение энергетической эффективности на 2010-2020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.Подпрограмма «Развитие малого и среднего предпринимательства в муниципальном образовании «Звениговский муниципальный райо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.Подпрограмма «Устойчивое развитие сельских территорий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4.Подпрограмма «Развитие земельных и имущественных отношений (2014-2018 годы)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. Подпрограмма «Защита прав потребителей в МО «Звениговский муниципальный райо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91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9931-6E40-4487-83BA-66319E767C8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1CC-2FA0-4652-9E65-ECF005776CD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8861400" y="6669000"/>
            <a:ext cx="35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6BD-3376-4303-83D2-D27E709D4573}" type="slidenum">
              <a:rPr b="0" lang="ru-RU" sz="800" spc="-1" strike="noStrike">
                <a:solidFill>
                  <a:srgbClr val="003b76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ект  бюджета муниципального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Звениговский муниципальный район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 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 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016 годы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903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Бюджетное послание Президента РФ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«О бюджетной политике в РФ в 2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4 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2016 годах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гноз социально-экономического развития Звениговского района на 2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4 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2016 г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Основные направления бюджетн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и налоговой политики МО «Звениговский муниципальный район» в 2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4 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2016 год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.Муниципальная программа «Развитие муниципальной службы и информационно-телекоммуникационных технологий в Звениговском муниципальном районе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на 2014-2018 годы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14440" y="3305160"/>
          <a:ext cx="8229600" cy="2133720"/>
        </p:xfrm>
        <a:graphic>
          <a:graphicData uri="http://schemas.openxmlformats.org/drawingml/2006/table">
            <a:tbl>
              <a:tblPr/>
              <a:tblGrid>
                <a:gridCol w="7048440"/>
                <a:gridCol w="11811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.Подпрограмма «Профессиональное развитие муниципальных служащих Звениговского муниципального района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.Подпрограмма «Развитие информационно-телекоммуникационных технологий в Звениговском муниципальной районе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. Подпрограмма «Противодействие коррупционным проявлениям в МО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9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AD3-1246-4129-8876-6E9665D7023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600" cy="15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.Муниципальная программа «Национальная безопасность по Звениговскому муниципальному району на 2014-2018 годы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514440" y="3305160"/>
          <a:ext cx="8229600" cy="2303640"/>
        </p:xfrm>
        <a:graphic>
          <a:graphicData uri="http://schemas.openxmlformats.org/drawingml/2006/table">
            <a:tbl>
              <a:tblPr/>
              <a:tblGrid>
                <a:gridCol w="7048440"/>
                <a:gridCol w="11811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.Подпрограмма «Профилактика терроризма и экстремизма, а также минимизация и(или) ликвидация последствий проявления терроризма и экстремизма на территории Звениговского района на 2014-2018 годы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.Подпрограмма «Профилактика правонарушений в Звениговском  муниципальной районе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. Подпрограмма «Профилактика наркомании в МО «Звениговский муниципальный район» на 2014-2018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  <p:sp>
        <p:nvSpPr>
          <p:cNvPr id="39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0B7-B38F-4400-86F4-42E995A7A69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еречень мероприятий, финансирование которых осуществляется за счет средств республиканского бюджета Республики Марий Э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23760" y="1285920"/>
          <a:ext cx="7581960" cy="4862520"/>
        </p:xfrm>
        <a:graphic>
          <a:graphicData uri="http://schemas.openxmlformats.org/drawingml/2006/table">
            <a:tbl>
              <a:tblPr/>
              <a:tblGrid>
                <a:gridCol w="6394680"/>
                <a:gridCol w="1187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умма,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возмещение части процентной ставки по кредитам, привлекаемым гражданами на газификацию индивидуального жиль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возмещение части процентной ставки  по кредитам, привлекаемым гражданами на водоснабжение индивидуального жилья от централизованных и децентрализованных источников водоснаб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ые выплаты на возмещение части процентной ставки по кредитам, привлекаемым гражданами на устройство поквартирной газовой системы ото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номочия по постановке на учет и учету граждан, выезжающих из районов Крайнего Севера и приравненных к ним мест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УНИЦИПАЛЬНЫЙ ДОЛГ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фицит бюджета на 2014 год составит 2100,0 тыс.руб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по кредитам на 01.01.2014 год–4500,0 тыс.руб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ируемый объем получения кредитов - 10000,0 тыс.руб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по кредитам на 01.01.2015 год–6600,0 тыс.руб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795-3943-4146-820E-ECC12781FAB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6809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a8b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32000" y="3858840"/>
            <a:ext cx="6858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25060, г. Звенигово, ул. Ленина, 3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л.7-13-59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fo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ven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@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fin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i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Бюджетное Послание Президента РФ   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«О бюджетной политике в  20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-20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годах»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38280" y="1866600"/>
            <a:ext cx="7981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В новых макроэкономических  условиях на первый план выходит решение задач повышения эффективности расходов и переориентации бюджетных ассигнований в рамках существующих бюджетных ограничений на реализацию приоритетных направлений государственной политики.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A61-0207-485D-A940-479143543E5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8861400" y="6669000"/>
            <a:ext cx="358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D0C-2714-4EB5-AA81-E8EB3BD740AE}" type="slidenum">
              <a:rPr b="0" lang="ru-RU" sz="800" spc="-1" strike="noStrike">
                <a:solidFill>
                  <a:srgbClr val="003b76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дачи бюджетной политики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вениговского района на 2014 -2016 год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охранение и развитие налогового потенциал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беспечение сбалансированности бюджет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еализация Указов Президента РФ от 7 мая 2012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вышение эффективности бюджетных расходов на основе оптимизации и результатив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ормирование бюджета в программном формат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силение роли финансового контроля в управлении бюджетным процесс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вышение открытости и прозрачности бюджета в рамках ЕИС «Электронный бюджет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2588-5ED9-41D1-AECB-C31ED7B8C0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новные показатели прогноз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циально-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 «Звениговский муниципальный район»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 2013-2016 год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930320"/>
          <a:ext cx="8975880" cy="4541760"/>
        </p:xfrm>
        <a:graphic>
          <a:graphicData uri="http://schemas.openxmlformats.org/drawingml/2006/table">
            <a:tbl>
              <a:tblPr/>
              <a:tblGrid>
                <a:gridCol w="2305080"/>
                <a:gridCol w="1352520"/>
                <a:gridCol w="1798560"/>
                <a:gridCol w="1947960"/>
                <a:gridCol w="1571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3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4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5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6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Фонд заработной платы млн.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44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48,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46,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62,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Численность работников  тыс.чел             (для расчета ФО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8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8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7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реднемесячная заработная плата, 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 17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8 63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 22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2 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30"/>
          <p:cNvSpPr/>
          <p:nvPr/>
        </p:nvSpPr>
        <p:spPr>
          <a:xfrm>
            <a:off x="8820000" y="6453360"/>
            <a:ext cx="32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7FBC-6263-45F7-A61F-938E18B4785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новные характеристики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солидированного бюджет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млн.руб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0" y="1371600"/>
          <a:ext cx="8975880" cy="3832200"/>
        </p:xfrm>
        <a:graphic>
          <a:graphicData uri="http://schemas.openxmlformats.org/drawingml/2006/table">
            <a:tbl>
              <a:tblPr/>
              <a:tblGrid>
                <a:gridCol w="2305080"/>
                <a:gridCol w="1352520"/>
                <a:gridCol w="1798560"/>
                <a:gridCol w="1947960"/>
                <a:gridCol w="1571760"/>
              </a:tblGrid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</a:rPr>
                        <a:t>2013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</a:rPr>
                        <a:t>2014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5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16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ef173"/>
                          </a:solidFill>
                          <a:latin typeface="Verdana"/>
                        </a:rPr>
                        <a:t>Всего доход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541,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593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ef173"/>
                          </a:solidFill>
                          <a:latin typeface="Verdana"/>
                        </a:rPr>
                        <a:t>Всего расход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543,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597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7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ef173"/>
                          </a:solidFill>
                          <a:latin typeface="Verdana"/>
                        </a:rPr>
                        <a:t>Дефиц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-2,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f173"/>
                          </a:solidFill>
                          <a:latin typeface="Times New Roman"/>
                          <a:ea typeface="Times New Roman"/>
                        </a:rPr>
                        <a:t>-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2,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2,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30"/>
          <p:cNvSpPr/>
          <p:nvPr/>
        </p:nvSpPr>
        <p:spPr>
          <a:xfrm>
            <a:off x="8820000" y="6453360"/>
            <a:ext cx="32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2B96-CA51-49A5-BB04-560B9FB6009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новные характеристики  бюджета район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лн.руб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1371600"/>
          <a:ext cx="8975880" cy="3954600"/>
        </p:xfrm>
        <a:graphic>
          <a:graphicData uri="http://schemas.openxmlformats.org/drawingml/2006/table">
            <a:tbl>
              <a:tblPr/>
              <a:tblGrid>
                <a:gridCol w="2305080"/>
                <a:gridCol w="1352520"/>
                <a:gridCol w="1798560"/>
                <a:gridCol w="1947960"/>
                <a:gridCol w="15717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3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4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5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6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91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14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9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5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16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30"/>
          <p:cNvSpPr/>
          <p:nvPr/>
        </p:nvSpPr>
        <p:spPr>
          <a:xfrm>
            <a:off x="8820000" y="6453360"/>
            <a:ext cx="32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3812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 соответствии с Федеральным законом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т 29 декабря 2012 года №273-ФЗ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«Об образовании в Российской Федераци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61960" y="1886040"/>
            <a:ext cx="7934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 1 сентября 2013 года в должностные оклады педагогических работников включается размер ежемесячной денежной компенсации на обеспечение книгоиздательской продукцией и периодическими изданиями</a:t>
            </a: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 1 января 2014 год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 местного на региональный уровень передаются       полномочия, по обеспечению бесплатного  дошкольного образования, включая расходы по оплате труда и приобретению учебных пособий, игруш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Отменяется предоставление субсидий из  федерального бюджета для выплаты денежного вознаграждения за классное руководств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312840" y="797040"/>
          <a:ext cx="8569080" cy="5271840"/>
        </p:xfrm>
        <a:graphic>
          <a:graphicData uri="http://schemas.openxmlformats.org/drawingml/2006/table">
            <a:tbl>
              <a:tblPr/>
              <a:tblGrid>
                <a:gridCol w="4176720"/>
                <a:gridCol w="1366560"/>
                <a:gridCol w="1729080"/>
                <a:gridCol w="1296720"/>
              </a:tblGrid>
              <a:tr h="7178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лн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бси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вен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5:15:39Z</dcterms:created>
  <dc:creator>Andrei</dc:creator>
  <dc:description/>
  <dc:language>en-US</dc:language>
  <cp:lastModifiedBy>Калининская</cp:lastModifiedBy>
  <dcterms:modified xsi:type="dcterms:W3CDTF">2013-12-13T05:22:42Z</dcterms:modified>
  <cp:revision>690</cp:revision>
  <dc:subject/>
  <dc:title>Будьжет  </dc:title>
</cp:coreProperties>
</file>